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66720" y="4684680"/>
            <a:ext cx="53294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C78-2E38-4BE7-9C16-7497F01F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kaalautuvuus =  Käytettävyyttä eri katselulaitteilla ja selaim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837E-37C4-4AEE-B2C4-768E69E1F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22200" y="3552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DE25-4BED-4EE7-BE02-70ADDC97F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488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22200" y="3552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4880" y="3552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EA73-FBB4-4FB3-A937-A63DA2640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0200" y="140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7840" y="140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22200" y="3552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0200" y="3552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7840" y="3552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DACC-E212-4F7B-AFFC-C4F944878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22200" y="140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4EF3-CBCD-4CBF-893F-518D77777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A51D-D585-4238-B606-11BB70088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4880" y="1403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D6F2-B4F8-46F1-BDF4-D436F8BAE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CA12-FDE8-4A22-B5DF-F90ECF3AE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FCF4-D248-4B4D-AA6B-B5787B87A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4880" y="1403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22200" y="3552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8148-3AE8-4943-B263-72724A4AB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488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4880" y="3552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A651-E178-4219-9DC0-935D925B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220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4880" y="140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22200" y="3552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6A14-1A3E-4E25-BACC-A59B32AFA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ian_pohja" descr=""/>
          <p:cNvPicPr/>
          <p:nvPr/>
        </p:nvPicPr>
        <p:blipFill>
          <a:blip r:embed="rId2"/>
          <a:stretch/>
        </p:blipFill>
        <p:spPr>
          <a:xfrm>
            <a:off x="-100080" y="-76320"/>
            <a:ext cx="9344160" cy="701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2200" y="140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327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1327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1327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1327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2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4E9-F8C0-4CD9-BE32-A94E46DAB25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700280"/>
            <a:ext cx="75438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99"/>
                </a:solidFill>
                <a:latin typeface="Arial"/>
              </a:rPr>
              <a:t>Kuvia verkkoon -käyttökoulut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3657600"/>
            <a:ext cx="655308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CHYSI-hankkeen käyttökoulu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13279"/>
                </a:solidFill>
                <a:latin typeface="Arial"/>
              </a:rPr>
              <a:t>Adobe Photoshop 7.0 -valik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14.9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Mervi Ah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13279"/>
                </a:solidFill>
                <a:latin typeface="Arial"/>
              </a:rPr>
              <a:t>Tervetulo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E72B-A9DB-44BF-9225-3A30F79C26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74840" y="1905120"/>
            <a:ext cx="517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Dokumen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Työtilan näkymän järjestäminen (palet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Työtilan muokkaus Ikkunoiden näyttäminen ja piilot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Alareunan ”kuvan tiedot” näkyy/piilotet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Window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Window_menu" descr=""/>
          <p:cNvPicPr/>
          <p:nvPr/>
        </p:nvPicPr>
        <p:blipFill>
          <a:blip r:embed="rId1"/>
          <a:stretch/>
        </p:blipFill>
        <p:spPr>
          <a:xfrm>
            <a:off x="6899400" y="1523880"/>
            <a:ext cx="1177920" cy="4880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962520" y="1676160"/>
            <a:ext cx="304776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1828800"/>
            <a:ext cx="190476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72200" y="2209680"/>
            <a:ext cx="762120" cy="1905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114800"/>
            <a:ext cx="838080" cy="17524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410080"/>
            <a:ext cx="2286000" cy="838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A11E-0229-4E1C-A0B8-68BE92B5D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Browser -ikkun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0" name="browser" descr=""/>
          <p:cNvPicPr/>
          <p:nvPr/>
        </p:nvPicPr>
        <p:blipFill>
          <a:blip r:embed="rId1"/>
          <a:stretch/>
        </p:blipFill>
        <p:spPr>
          <a:xfrm>
            <a:off x="4579920" y="1790640"/>
            <a:ext cx="4411800" cy="4915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19320" y="2209680"/>
            <a:ext cx="320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Photoshop 7.0 näkymän oikeassa yläkulmassa on valittavissa Browser – ja Brushes valik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67080" y="5714640"/>
            <a:ext cx="83844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583884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Aktiivisena olevan kuvan tekniset tie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1176-FDA6-4833-B190-570A487899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Photoshop 7.0:n valiko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22200" y="1761840"/>
            <a:ext cx="7315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Edit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Layer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Select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Filter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View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Window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pic>
        <p:nvPicPr>
          <p:cNvPr id="51" name="valikko" descr=""/>
          <p:cNvPicPr/>
          <p:nvPr/>
        </p:nvPicPr>
        <p:blipFill>
          <a:blip r:embed="rId1"/>
          <a:stretch/>
        </p:blipFill>
        <p:spPr>
          <a:xfrm>
            <a:off x="3809880" y="2327400"/>
            <a:ext cx="4857840" cy="300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7772400" y="2631960"/>
            <a:ext cx="838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DBAC-5B4C-4DB3-AAB7-F6FEE3340D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ile_menu" descr=""/>
          <p:cNvPicPr/>
          <p:nvPr/>
        </p:nvPicPr>
        <p:blipFill>
          <a:blip r:embed="rId1"/>
          <a:stretch/>
        </p:blipFill>
        <p:spPr>
          <a:xfrm>
            <a:off x="6477120" y="1798560"/>
            <a:ext cx="2103480" cy="447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File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1840" y="2057040"/>
            <a:ext cx="5254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Uuden kuvan luomine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uvan avaaminen ja sulkemine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uvan tallettamine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Skannatun kuvan tuominen (Import)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Tulostustoiminnot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Ohjelman sulkemine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56200" y="1895400"/>
            <a:ext cx="60984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75320" y="2123640"/>
            <a:ext cx="9907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575320" y="3038040"/>
            <a:ext cx="99072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257800" y="4003560"/>
            <a:ext cx="1295280" cy="3398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5324040"/>
            <a:ext cx="1384200" cy="9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867280"/>
            <a:ext cx="870120" cy="292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505240"/>
            <a:ext cx="45720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04000" y="3342960"/>
            <a:ext cx="60948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5334120"/>
            <a:ext cx="717480" cy="328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A7AB-D5FC-4BEB-8342-4223A7D3C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it_menu" descr=""/>
          <p:cNvPicPr/>
          <p:nvPr/>
        </p:nvPicPr>
        <p:blipFill>
          <a:blip r:embed="rId1"/>
          <a:stretch/>
        </p:blipFill>
        <p:spPr>
          <a:xfrm>
            <a:off x="6702480" y="1700280"/>
            <a:ext cx="1908000" cy="4560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Edit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2200" y="1762200"/>
            <a:ext cx="502632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Peruuta ja tee uudellee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Leikkaa, kopioi, liimaa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Täytä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Piirrä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Tason muokkaus ja pyörittely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Määritä sivellin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Puhdistus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Ohjelman asetukset</a:t>
            </a:r>
            <a:endParaRPr b="0" lang="en-US" sz="32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172200" y="1828440"/>
            <a:ext cx="68580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590920"/>
            <a:ext cx="1219320" cy="759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124080"/>
            <a:ext cx="365760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86200" y="5562360"/>
            <a:ext cx="2895480" cy="759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05680" y="1967040"/>
            <a:ext cx="652320" cy="14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590920"/>
            <a:ext cx="121932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3581280"/>
            <a:ext cx="358128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495680"/>
            <a:ext cx="3048120" cy="152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72000" y="4952880"/>
            <a:ext cx="2209680" cy="152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34120" y="6172200"/>
            <a:ext cx="1447560" cy="76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3D9A-C093-491B-82D4-76072635C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22200" y="1762200"/>
            <a:ext cx="51022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Väriasetukset (RGB, Inde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Säädöt (vär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uvan kopiointi kokonais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uvan ko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ehyksen ko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Kuvakehyksen pyörit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_menu" descr=""/>
          <p:cNvPicPr/>
          <p:nvPr/>
        </p:nvPicPr>
        <p:blipFill>
          <a:blip r:embed="rId1"/>
          <a:stretch/>
        </p:blipFill>
        <p:spPr>
          <a:xfrm>
            <a:off x="7132680" y="2301840"/>
            <a:ext cx="1325520" cy="3108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Image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438280"/>
            <a:ext cx="3276720" cy="76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8320" y="2743200"/>
            <a:ext cx="266688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38480" y="3047760"/>
            <a:ext cx="327672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86200" y="3733560"/>
            <a:ext cx="342900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638680" y="4114440"/>
            <a:ext cx="1676520" cy="1600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82880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95680" y="3886200"/>
            <a:ext cx="281952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535C-3784-4A19-818F-67A1DC630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layer_menu" descr=""/>
          <p:cNvPicPr/>
          <p:nvPr/>
        </p:nvPicPr>
        <p:blipFill>
          <a:blip r:embed="rId1"/>
          <a:stretch/>
        </p:blipFill>
        <p:spPr>
          <a:xfrm>
            <a:off x="7102440" y="1523880"/>
            <a:ext cx="1736640" cy="522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8520" y="1447920"/>
            <a:ext cx="510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Uusi taso, tason kopiointi ja po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Tason ominaisuudet ja tasoefekt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Säätötas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Tasomaskien ja niiden säätöjen muuttamin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Vektoritason rasteroin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Kuvan osittel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Tasomaskit ja säädö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Tasojen järjest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13279"/>
                </a:solidFill>
                <a:latin typeface="Arial"/>
              </a:rPr>
              <a:t>Tasojen ”litistäminen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Layer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29400" y="1523880"/>
            <a:ext cx="60948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572000" y="1981080"/>
            <a:ext cx="2666880" cy="76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05520" y="3504960"/>
            <a:ext cx="2057400" cy="1143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00600" y="4419360"/>
            <a:ext cx="2362320" cy="1143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19720" y="4800600"/>
            <a:ext cx="281916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76920" y="6019560"/>
            <a:ext cx="228600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29400" y="2209320"/>
            <a:ext cx="53352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76920" y="6324120"/>
            <a:ext cx="228600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19720" y="5562360"/>
            <a:ext cx="274320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86400" y="2361960"/>
            <a:ext cx="175248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2971800"/>
            <a:ext cx="990360" cy="838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11840" y="3121200"/>
            <a:ext cx="53352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5320" y="2590920"/>
            <a:ext cx="3733560" cy="838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781360"/>
            <a:ext cx="838080" cy="38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53080" y="3962520"/>
            <a:ext cx="60984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733920"/>
            <a:ext cx="2590920" cy="1371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403C-2FDA-4848-97FF-31E35108B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elect_menu" descr=""/>
          <p:cNvPicPr/>
          <p:nvPr/>
        </p:nvPicPr>
        <p:blipFill>
          <a:blip r:embed="rId1"/>
          <a:stretch/>
        </p:blipFill>
        <p:spPr>
          <a:xfrm>
            <a:off x="6445080" y="1981080"/>
            <a:ext cx="2597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22200" y="1447920"/>
            <a:ext cx="5026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tse ka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Tyhjennä valin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tse uudelleen edellinen val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Päinvastainen val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tse väri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Häivytä valinnan reun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nnan muotoil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nnan kasvat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tse samanlaiset pikse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Muuta vali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Valitse tason sisäl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Tallenna val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Select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289548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057400"/>
            <a:ext cx="243828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743200"/>
            <a:ext cx="2743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8320" y="3047760"/>
            <a:ext cx="198108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38480" y="3428640"/>
            <a:ext cx="259092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105520" y="3809880"/>
            <a:ext cx="1523880" cy="152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4114440"/>
            <a:ext cx="160020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2880" y="4495320"/>
            <a:ext cx="167652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4800600"/>
            <a:ext cx="121932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5181480"/>
            <a:ext cx="27432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19720" y="5638320"/>
            <a:ext cx="2133360" cy="38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962520" y="5943600"/>
            <a:ext cx="259056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713C-8F3E-4C53-B63D-19ABD3652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4840" y="1523880"/>
            <a:ext cx="4645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Toista edelli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Er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Sula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Toistuvan kuvion luomi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Korjaavat suoti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Rikkovat suoti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Loput ovat tehostesuoti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13279"/>
                </a:solidFill>
                <a:latin typeface="Arial"/>
              </a:rPr>
              <a:t>Digitaalinen vesileima</a:t>
            </a:r>
            <a:r>
              <a:rPr b="0" lang="fi-FI" sz="3200" spc="-1" strike="noStrike">
                <a:solidFill>
                  <a:srgbClr val="01327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13279"/>
                </a:solidFill>
                <a:latin typeface="Arial"/>
              </a:rPr>
              <a:t>(http://www.digimarc.com/watermarking/default.a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Filter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filter_menu" descr=""/>
          <p:cNvPicPr/>
          <p:nvPr/>
        </p:nvPicPr>
        <p:blipFill>
          <a:blip r:embed="rId1"/>
          <a:stretch/>
        </p:blipFill>
        <p:spPr>
          <a:xfrm>
            <a:off x="6118200" y="1992240"/>
            <a:ext cx="2492280" cy="3875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5067360" y="3276720"/>
            <a:ext cx="1257120" cy="901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67360" y="3885840"/>
            <a:ext cx="1257120" cy="2919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67360" y="4178160"/>
            <a:ext cx="1257120" cy="317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876920" y="4038120"/>
            <a:ext cx="1447560" cy="685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3657240"/>
            <a:ext cx="1447560" cy="10666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4267080"/>
            <a:ext cx="144756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724280"/>
            <a:ext cx="1447560" cy="152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7360" y="4178160"/>
            <a:ext cx="1257120" cy="1079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67360" y="4178160"/>
            <a:ext cx="1257120" cy="1231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2286000"/>
            <a:ext cx="342900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76720" y="2590560"/>
            <a:ext cx="297180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819520"/>
            <a:ext cx="14479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638680" y="5715000"/>
            <a:ext cx="60984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828800"/>
            <a:ext cx="167652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1D5F-4165-42FC-A6DB-976EAD146A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Arial"/>
              </a:rPr>
              <a:t>View-valikk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0" name="view_menu" descr=""/>
          <p:cNvPicPr/>
          <p:nvPr/>
        </p:nvPicPr>
        <p:blipFill>
          <a:blip r:embed="rId1"/>
          <a:stretch/>
        </p:blipFill>
        <p:spPr>
          <a:xfrm>
            <a:off x="6275520" y="1836720"/>
            <a:ext cx="2182680" cy="4183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74840" y="1523880"/>
            <a:ext cx="4645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CMYK esikatselu asetuk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Vedosvä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Toistoalavaroitus (CMY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Näkymäkoko/+ ja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Sovita näytö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Todelliset piksel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Tulostusko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Ositustoiminto näkyy/piilo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Näytä (esim. apulinj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Viivai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Tartu, tartu esim. apulinj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Lukitse -, vapauta -, tee uusi apuli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13279"/>
                </a:solidFill>
                <a:latin typeface="Arial"/>
              </a:rPr>
              <a:t>Lukitse ositus, vapauta osi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52480"/>
            <a:ext cx="106668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057400"/>
            <a:ext cx="3276720" cy="76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05520" y="2361960"/>
            <a:ext cx="1218960" cy="759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91120" y="2666880"/>
            <a:ext cx="2209680" cy="152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2819520"/>
            <a:ext cx="22096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09880" y="3047760"/>
            <a:ext cx="2590920" cy="152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38480" y="3276360"/>
            <a:ext cx="2362320" cy="228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05320" y="3429000"/>
            <a:ext cx="289548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10080" y="373392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648320" y="3962520"/>
            <a:ext cx="175248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0600" y="4266720"/>
            <a:ext cx="160020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123720" y="502920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4120" y="4495680"/>
            <a:ext cx="106668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334120" y="4723920"/>
            <a:ext cx="106668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334120" y="5028840"/>
            <a:ext cx="106668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334120" y="5181480"/>
            <a:ext cx="1066680" cy="6098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334120" y="5409720"/>
            <a:ext cx="1066680" cy="38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10080" y="5714640"/>
            <a:ext cx="914400" cy="6094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5867280"/>
            <a:ext cx="9907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F622-6F8D-4592-A422-9423BD180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1:15:58Z</dcterms:created>
  <dc:creator>Virtuaaliyliopisto</dc:creator>
  <dc:description/>
  <dc:language>en-US</dc:language>
  <cp:lastModifiedBy>mervi.ahonen</cp:lastModifiedBy>
  <dcterms:modified xsi:type="dcterms:W3CDTF">2004-09-13T15:31:01Z</dcterms:modified>
  <cp:revision>165</cp:revision>
  <dc:subject/>
  <dc:title>Kuvankäsittelyn perusteet – Adobe Photoshop El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