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546-7194-4FE5-A10C-2D377886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974-6D6C-4918-AAA3-53F17927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D7D-3FF1-4BDD-B75C-2DD74345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357-E4A2-45E0-828A-6E4393FD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D6E-5A01-48ED-98E8-EF31C0AF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BA5-A52A-4E62-9A9A-B8A6EF8F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633-4AE9-4DC5-BEE4-DC0B9902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58A-1815-414C-8DC1-BB9AD060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728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283-5D07-42D7-BABF-7884B325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E82-F355-40B9-90E3-CEC8984E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414-7DA7-4D28-B8E5-DFFD700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04E-6A56-499C-A49F-9D8C5046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F455-B6D0-4B2A-8CFB-DB464C35B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rtuaaliyliopisto.jyu.fi:8080/moniviestin/sisalto/movie" TargetMode="External"/><Relationship Id="rId3" Type="http://schemas.openxmlformats.org/officeDocument/2006/relationships/hyperlink" Target="http://www.mlab.uiah.fi/elokuvantaju/2001/oppimateriaali/oppimateriaali.jsp" TargetMode="External"/><Relationship Id="rId4" Type="http://schemas.openxmlformats.org/officeDocument/2006/relationships/hyperlink" Target="http://www.yle.fi/mikaeli" TargetMode="External"/><Relationship Id="rId5" Type="http://schemas.openxmlformats.org/officeDocument/2006/relationships/hyperlink" Target="http://www.fng.fi/fng/html4/fi/peda/project/simberg/enkeli/enkeli1.htm" TargetMode="External"/><Relationship Id="rId6" Type="http://schemas.openxmlformats.org/officeDocument/2006/relationships/hyperlink" Target="http://www.splintermind.com/" TargetMode="External"/><Relationship Id="rId7" Type="http://schemas.openxmlformats.org/officeDocument/2006/relationships/hyperlink" Target="http://www.yle.fi/ylex/" TargetMode="External"/><Relationship Id="rId8" Type="http://schemas.openxmlformats.org/officeDocument/2006/relationships/hyperlink" Target="http://www.yle.fi/ylex/" TargetMode="Externa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ernetix.ofw.fi/atk-tuki/opinnot/aani/tiedosto.htm" TargetMode="External"/><Relationship Id="rId3" Type="http://schemas.openxmlformats.org/officeDocument/2006/relationships/hyperlink" Target="http://www.yle.fi/mikaeli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rtuaaliyliopisto.jyu.fi/riksa/opetus/aaniverkkoon/kuvat/aaniverkkoonmap.gif" TargetMode="External"/><Relationship Id="rId3" Type="http://schemas.openxmlformats.org/officeDocument/2006/relationships/hyperlink" Target="http://virtuaaliyliopisto.jyu.fi/riksa/opetus/aaniverkkoon/kuvat/aaniverkkoonmap.gif" TargetMode="External"/><Relationship Id="rId4" Type="http://schemas.openxmlformats.org/officeDocument/2006/relationships/hyperlink" Target="http://virtuaaliyliopisto.jyu.fi/oppimateriaali/Hanna/index.html" TargetMode="External"/><Relationship Id="rId5" Type="http://schemas.openxmlformats.org/officeDocument/2006/relationships/hyperlink" Target="http://virtuaaliyliopisto.jyu.fi/oppimateriaali/Hanna/index.html" TargetMode="External"/><Relationship Id="rId6" Type="http://schemas.openxmlformats.org/officeDocument/2006/relationships/hyperlink" Target="http://www.imaginos.fi/materiaa/audio/index.html" TargetMode="External"/><Relationship Id="rId7" Type="http://schemas.openxmlformats.org/officeDocument/2006/relationships/hyperlink" Target="http://www.multimedia.jyu.fi/opinnot/kurssit/mmaa26/materiaali/formaatit.html" TargetMode="External"/><Relationship Id="rId8" Type="http://schemas.openxmlformats.org/officeDocument/2006/relationships/hyperlink" Target="http://www.multimedia.jyu.fi/opinnot/kurssit/mmaa26/materiaali/formaatit.html" TargetMode="External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rtuaaliyliopisto.jyu.fi/riksa/opetus/aaniverkkoon/minidiskohje.doc" TargetMode="External"/><Relationship Id="rId3" Type="http://schemas.openxmlformats.org/officeDocument/2006/relationships/hyperlink" Target="http://www.internetix.fi/atk-tuki/opinnot/aani/nauhoitus.htm" TargetMode="External"/><Relationship Id="rId4" Type="http://schemas.openxmlformats.org/officeDocument/2006/relationships/hyperlink" Target="http://www.internetix.fi/atk-tuki/opinnot/aani/" TargetMode="External"/><Relationship Id="rId5" Type="http://schemas.openxmlformats.org/officeDocument/2006/relationships/hyperlink" Target="http://www.tct.hut.fi/opetus/s38118/s99/htyo/16/laillisuus.shtml" TargetMode="External"/><Relationship Id="rId6" Type="http://schemas.openxmlformats.org/officeDocument/2006/relationships/hyperlink" Target="http://www.tct.hut.fi/opetus/s38118/s99/htyo/16/laillisuus.shtml" TargetMode="Externa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rtuaaliyliopisto.jyu.fi/riksa/opetus/aaniverkkoon/aanitesti.htm" TargetMode="External"/><Relationship Id="rId3" Type="http://schemas.openxmlformats.org/officeDocument/2006/relationships/hyperlink" Target="http://virtuaaliyliopisto.jyu.fi/riksa/opetus/aaniverkkoon/aani_webbiin.doc" TargetMode="External"/><Relationship Id="rId4" Type="http://schemas.openxmlformats.org/officeDocument/2006/relationships/hyperlink" Target="http://virtuaaliyliopisto.jyu.fi/riksa/opetus/aaniverkkoon/aani_webbiin.doc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ennicam.org/" TargetMode="External"/><Relationship Id="rId3" Type="http://schemas.openxmlformats.org/officeDocument/2006/relationships/hyperlink" Target="http://ns1.keskisuomalainen.fi/webcam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lisa.net/elisatv/" TargetMode="External"/><Relationship Id="rId3" Type="http://schemas.openxmlformats.org/officeDocument/2006/relationships/hyperlink" Target="http://www.mtv.com/music/video/" TargetMode="External"/><Relationship Id="rId4" Type="http://schemas.openxmlformats.org/officeDocument/2006/relationships/hyperlink" Target="http://www.apple.com/quicktime/gallery/mpeg4.html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iska.fi/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yu.fi/visio" TargetMode="External"/><Relationship Id="rId3" Type="http://schemas.openxmlformats.org/officeDocument/2006/relationships/hyperlink" Target="http://www.pixoff.net/fi/index.asp" TargetMode="External"/><Relationship Id="rId4" Type="http://schemas.openxmlformats.org/officeDocument/2006/relationships/hyperlink" Target="http://www.klak.com/free/" TargetMode="External"/><Relationship Id="rId5" Type="http://schemas.openxmlformats.org/officeDocument/2006/relationships/hyperlink" Target="http://jf.org/jftv.html" TargetMode="External"/><Relationship Id="rId6" Type="http://schemas.openxmlformats.org/officeDocument/2006/relationships/hyperlink" Target="http://www.helsinginsanomat.fi/klik/webortaasit/" TargetMode="External"/><Relationship Id="rId7" Type="http://schemas.openxmlformats.org/officeDocument/2006/relationships/hyperlink" Target="http://keskisuomalainen.net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ple.com/quicktime/products/qt/" TargetMode="External"/><Relationship Id="rId3" Type="http://schemas.openxmlformats.org/officeDocument/2006/relationships/hyperlink" Target="http://www.apple.com/trailers/" TargetMode="External"/><Relationship Id="rId4" Type="http://schemas.openxmlformats.org/officeDocument/2006/relationships/hyperlink" Target="http://www.apple.com/trailers/" TargetMode="External"/><Relationship Id="rId5" Type="http://schemas.openxmlformats.org/officeDocument/2006/relationships/hyperlink" Target="http://www.apple.com/trailers/" TargetMode="External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al.com/" TargetMode="External"/><Relationship Id="rId3" Type="http://schemas.openxmlformats.org/officeDocument/2006/relationships/hyperlink" Target="http://www.real.com/" TargetMode="External"/><Relationship Id="rId4" Type="http://schemas.openxmlformats.org/officeDocument/2006/relationships/hyperlink" Target="http://www.mtv3.fi/idols/videot.shtml" TargetMode="External"/><Relationship Id="rId5" Type="http://schemas.openxmlformats.org/officeDocument/2006/relationships/hyperlink" Target="http://www.mtv3.fi/idols/videot.shtml" TargetMode="Externa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crosoft.com/windows/windowsmedia/default.aspx" TargetMode="External"/><Relationship Id="rId3" Type="http://schemas.openxmlformats.org/officeDocument/2006/relationships/hyperlink" Target="http://www.microsoft.com/windows/windowsmedia/default.aspx" TargetMode="External"/><Relationship Id="rId4" Type="http://schemas.openxmlformats.org/officeDocument/2006/relationships/hyperlink" Target="http://www.pixoff.net/fi/index.asp" TargetMode="External"/><Relationship Id="rId5" Type="http://schemas.openxmlformats.org/officeDocument/2006/relationships/hyperlink" Target="http://www.pixoff.net/fi/index.asp" TargetMode="Externa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rtuaaliyliopisto.jyu.fi/materiaali/jussi/videoformaatit.htm" TargetMode="External"/><Relationship Id="rId3" Type="http://schemas.openxmlformats.org/officeDocument/2006/relationships/hyperlink" Target="http://www.multimedia.jyu.fi/opinnot/kurssit/mmaa26/materiaali/formaatit.html" TargetMode="Externa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le.fi/mikaeli/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irtuaaliyliopisto.fi/osahankkeet/strategiapalvelu/kokemuksia/Lundell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i ja video verkk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IE358 &amp; ITKC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emo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Digitaalinen ääni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okoneella kaikki tieto on digitaalisessa, eli numeerisessa muodossa. Luonnossa ääni on jossakin aineessa (esim. ilmassa) kulkevia aalto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tta ääntä voidaan käsitellä tietokoneessa, täytyy se muuntaa numeroiksi ns. A/D-muuntimella (analog-to-digital). Tietokoneella äänikortti hoitaa yleensä automaattisesti tämän muunnok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ska digitaalinen ääni on numeerista, ei sen laatu huonone kopioitaessa, kuten analogiselle äänelle käy (esim. nauhoitettaessa kasetille). CD-soittimessa on A/D-muunnin, joka muuttaa digitaalisen äänen analogiseksi vahvistinta tai kaiuttimia var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Digitaalinen ääni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ietokoneella ääntä voi olla ainakin kolmessa eri perusmuodossa: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vastaa digitaalisesti nauhoitettua ää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sisältää ohjauskomentoja, joilla ohjataan äänikortilla (tai erillään) sijaitsevaa syntetisaat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, jossa ääninäytteitä soitetaan halutussa järjestykse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Ääni on ns. aikaansidottu multimediaelementti (toisin kuin esim. kuv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Esimerkke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ov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rtuaaliyliopisto.jyu.fi:8080/moniviestin/sisalto/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lokuvantaj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lab.uiah.fi/elokuvantaju/2001/oppimateriaali/oppimateriaali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ettiradio Mika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le.fi/mika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alaus ääne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ng.fi/fng/html4/fi/peda/project/simberg/enkeli/enkeli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onTVTVstation –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plintermind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lex – radiokan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fi-FI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yle.fi/ylex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itiedostoformaatteja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Windows PCM WAVE waveform (.wav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Windowssin perusäänitiedosto, toimii kaikissa äänentoisto- ja käsittelyohjelmi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Äänidata tallennetaan pakkaamattomana WAV-tiedost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llennusmuoto tukee kaikkia näytteenottotaajuuksia, 8 ja 16 bitin resoluutiota, mono- ja stereomuoto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RealAudio (.ra tai .rm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RealMedia on RealNetworksin kehittämä videon ja äänen jakelujärjestelmä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RealMedia-tiedostoja katsellaan ja kuunnellaan RealPlayer-soittime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RealAudio käyttää häviöllistä pakkausta. Häviöllinen pakkaus soveltuu video- ja äänidatan kompressointiin </a:t>
            </a:r>
            <a:r>
              <a:rPr b="0" lang="fi-FI" sz="16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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aavutetaan tehokas pakkaussuhde </a:t>
            </a:r>
            <a:r>
              <a:rPr b="0" lang="fi-FI" sz="16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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ieniä tiedostoj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RealAudio kompressointi tehdään RealProducer-ohjelmalla, joka kääntää lähdetiedoston (esim. .Wav) RealAudio (.ra tai .rm) muoto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äännösvaiheessa voidaan valita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odekki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, joka mukaan kompressointi tehdään. Monet nettiradiot, kuten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adioMikaeli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, käyttävät RealAudio-menetelmää ohjelman lähettämise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itiedostoformaatteja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MPEG (.mp2 ja .mp3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PEG on videokuvan ja audion pakkausmenetelmä, jonka tunnetuin muoto on tällä hetkellä MP3-musiikk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PEG koodauksesta on kolme muotoa, jotka on nimetty muotoon MPEG-1, MPEG-2 ja MPEG-3. Näistä MPEG-1 sisältää vielä kolme audiotasoa (Layers), joista Layer 3 pakkaa monien tuntemaa MP3-musiikkia. Sillä saavutetaan jopa pakkaussuhde 1:12, jolloin CD tasoinen minuutin musiikki saadaan tallennettua 1 megatavun tiedosto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Unix/Next audio (.au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iedostomuodon tarkennin on .au ja tallennuksessa voidaan käyttää mu-Law- ja A-Law-kodekin lisäksi lineaarista PCM-koodausta. </a:t>
            </a:r>
            <a:r>
              <a:rPr b="0" lang="fi-FI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oodauksessa ääni käännetään yleensä 16-bitin resoluutiosta 8-bitin resoluutiolle. Tämä tallennusmuoto on verkkoaudion perusmuoto, jota voidaan soittaa lähes kaikilla Windowsin- ja Macintoshin-ääniohjelmil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QuickTime (.mov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pplen Quicktime on multimedia-arkkitehtuuri, joka tukee videon ja animaation lisäksi grafiikkaa, 3D:tä ja virtuaalitodellisuutta (VR). QuickTime-tiedosto voi sisältää myös pelkkää ääntä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isoittim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indows Media Player (.w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www.microsoft.com/windows/windowsmedi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alPlayer (.ra tai .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www.rea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in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www.winamp.com/playe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QuickTime (.m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www.apple.com/quicktime/downloa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Äänen toistamiseen, äänitiedoston muuttaminen muodosta toiseen, äänen polttaminen CD:lle j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Ääniedito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Äänieditoreissa sama periaate: aikaj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und Forge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onipuolinen työkalu (efekt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lmainen, yksinkerta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mmattikäyttöön (videoeditori samas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isuunnittelu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ieti etukäteen, mitä ääniä tarvit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astat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nnon ääniä (linnunlaulu, liikenteen me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siikkia (tekijänoikeud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hosteääniä (esim. multimediasovellukses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auhoitustilan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ssä tilassa nauhoitetaan (sisällä, ulk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äiriöäänet pois (taustahäly, kännykät kiinni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isuunnittelu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kniikka pel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ikrofoni päällä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kussa/pattereissa vir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uentosalin audiolaitteet kunn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rempi äänenlaatu nauhoituksessa </a:t>
            </a:r>
            <a:r>
              <a:rPr b="0" lang="fi-FI" sz="32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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ienempi tiedosto verkk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Esimerkki: haastattelu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ähtötilanne: ”halutaan asiantuntijan haastattelu hieman lyhennettynä netti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ovitaan haastateltavan kanssa ajankohta + haastattelun aihe + ”tämä tulee netti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ankitaan nauhoitusvälineet (minidisk + mikrofoni + kuulokk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opiva paikka nauhoitukselle (ei taustahälyä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auhoitustilanne (tekniikka pela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ediaelementtien vali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itä varten tekstiä, kuvaa, ääntä ja videokuvaa käytetää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ä on mediaelementtien funkt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vitaanko tätä mediaelementtiä kurssil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nko mediaelementti kohderyhmään ja tarkoitukseensa nähden sop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llä medialla yksittäinen asia välittyy vastaanottajalle tehokkaimm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ä on elementtien suhde toisiinsa? (uusi näkökulma, tukevat, täydentävät, havainnollistavat, j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Esimerkki: haastattelu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auhoitetaan mieluummin lyhyitä pätkiä kuin koko haastattelu kerrall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unnellaan nauha läpi, merkataan, mitkä pätkät hyvi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irretään koneelle (äänieditorin record-toiminno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eikataan sopivaksi, vahvistetaan jos tarv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lletetaan .mp3-muod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ätään nettisivulle ja siirretään sivu WWW-palvelim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st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Linkkejä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Ääni verkkoon - ajatuskar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virtuaaliyliopisto.jyu.fi/riksa/opetus/aaniverkkoon/kuvat/aaniverkkoonmap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ediaelementit - ää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virtuaaliyliopisto.jyu.fi/oppimateriaali/Hanna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igitaalinen ääni - verkkomateria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imaginos.fi/materiaa/audio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ediaelementtien tiedostomuo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www.multimedia.jyu.fi/opinnot/kurssit/mmaa26/materiaali/formaati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Linkkejä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inidiskin käyttöoh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rtuaaliyliopisto.jyu.fi/riksa/opetus/aaniverkkoon/minidiskohje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Äänittäminen tietokone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nternetix.fi/atk-tuki/opinnot/aani/nauhoitu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nternetix – äänenkäsit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internetix.fi/atk-tuki/opinnot/aan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inopilliset ongel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www.tct.hut.fi/opetus/s38118/s99/htyo/16/laillisuus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en tallennusharjo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ttp://www.mit.jyu.fi/ope/kurssit/Demot/aanidemo_2004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Äänileikkeen upottaminen webbisivu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rtuaaliyliopisto.jyu.fi/riksa/opetus/aaniverkkoon/aanitest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virtuaaliyliopisto.jyu.fi/riksa/opetus/aaniverkkoon/aani_webbiin.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 verko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yvästä lähdemateriaalista saadaan hyvä lopputul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n perinteinen ro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uonteeltaan lineaarinen ja passiiv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iihdyttäv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okumentoiva, havainnollistaa todellisuu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isää autenttisuutta; samaistu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ielikuvia lu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imitettuna juttuna voi olla myös paljon muu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Ei toimitettu videomateria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rilaiset verkkokame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enny webcam </a:t>
            </a:r>
            <a:r>
              <a:rPr b="0" lang="fi-FI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jennicam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v-tuotannon webcamit, esimerkiksi Saari-ohje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eski-Suomen webcam </a:t>
            </a:r>
            <a:r>
              <a:rPr b="0" lang="fi-FI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s1.keskisuomalainen.fi/webca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ideoneuvot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iedotustilaisuudet, opetukset, seminaa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oimitettu verkkomateria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onialustaisuus = samaa sisältöä eri medi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verkossa lehden lisäksi matsk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pioitua matskua, esimerkkejä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tiset (Ylen TV-uuti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v-ohjelmat (Elisa-TV </a:t>
            </a:r>
            <a:r>
              <a:rPr b="0" lang="fi-FI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lisa.net/elisatv/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siikkivideot (</a:t>
            </a:r>
            <a:r>
              <a:rPr b="0" lang="fi-FI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tv.com/music/video/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ilmitrailerit (http://movies.rea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PEG4-muodossa </a:t>
            </a:r>
            <a:r>
              <a:rPr b="0" lang="fi-FI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pple.com/quicktime/gallery/mpeg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rkkoon tuotettu materia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rkossa päämedian lisäksi videomatsk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eiska-TV, </a:t>
            </a:r>
            <a:r>
              <a:rPr b="0" lang="fi-FI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eiska.fi/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ross-media= sekakäyttö,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aari-ohje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uuri seikkai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rkkojulkaisukan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televisio Vis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jyu.fi/vi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yhytelokuvayhteisö Pix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ixoff.net/fi/index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REE YOUR MIND 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lak.com/fre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urakun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jf.org/jftv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imediaista materiaalia vielä yllättävän vähä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ebortaaseissa kokeil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helsinginsanomat.fi/klik/webortaasi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keskisuomalaine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va verkossa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avainnolli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uo esiin tunnelmia, tunte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grafiikka ja kuvat verkkosivusto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m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isualis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innostuksen herättä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enkilöittä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erinteisesti kuva tukee aineistoa, entäs ny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soittim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eita erilaisia, jokaisella joku ”oma juttu” mutta toistavat myös muita videomuot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oi ladata netistä ilmaiseksi (kylkiäisenä tulee usein mainospostia tm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usia versioita tulee tiheään tahtiin </a:t>
            </a:r>
            <a:r>
              <a:rPr b="0" lang="fi-FI" sz="28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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äivitys tärke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ein ladataan selainlisäosa eli Plug-in </a:t>
            </a:r>
            <a:r>
              <a:rPr b="0" lang="fi-FI" sz="28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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ideot latautuvat selaim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pple QuickTime (6.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ma tiedostoformaatti .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Quicktime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ukee myös: .avi, .mp4, .mpeg, .m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ideota voidaan suoratoistaa (str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-versiossa lisäominaisuuk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pple.com/quicktime/products/q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apple.com/trail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ealPlayer (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istaa Realmediaa: .rm (video- ja äänitiedosto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istaa myös: mpeg, avi, mp3 j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hokas pakkaus rm-muodossa (myös suoratois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rea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inoksia tulee mukana ja asentaminen on tuska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www.mtv3.fi/idols/videot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Windows Media Player (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indowsin muk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ma formaatti .wmv (voi suoratoi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istaa myös avi, mpeg, mp3 j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microsoft.com/windows/windowsmedia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ideoesimerkkejä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fi-FI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www.pixoff.net/fi/index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editorit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seita erilaisia, ilmaisista huikean kalliis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ama työskentelyperiaate: Videoklipit voidaan asettaa aikajanalle yhdelle tai useammalle videokanava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Äänenmuokkaustoiminnot, leikkaukset, videokuvaefektit, videon kaappaus ja tallen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editorit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remi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dobe.com/products/premiere/main.html?awe_0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Movie Mak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icrosoft.com/windowsxp/moviemaker/default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c Foundry (Sony) Video Factory ja Vegas Vide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ediasoftware.sonypictures.com/products/vegasfamily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n iMovie: http://www.apple.com/imovi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formaa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rtuaaliyliopisto.jyu.fi/materiaali/jussi/videoformaatit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diaelementtien tiedostomuo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ultimedia.jyu.fi/opinnot/kurssit/mmaa26/materiaali/formaati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 käytännöss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yvästä lähdemateriaalista saadaan hyvä lopput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deota pakataan aina raju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ideotiedostot jakautuvat kahteen kategoriaan käyttötarkoituksensa muk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yötiedos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kelutiedos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yötiedostoissa laatu on tärkeämpää kuin tilankäytt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akelutiedostoissa pyritään mahdollisimman pieneen tiedoston kokoon (laadun kuitenkaan pahasti kärsimättä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ratoisto – streaming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n ja audion välitön katselu heti tiedonsiirron alett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treaming formaatt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Networksin forma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lei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en forma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 sovellu pienimmille kaistanleveyks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in forma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imii vain Microsoftin ohjelmisto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ratoisto – streaming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uoratoistotiedosto koodataan yhtä tai useampaa kaistanleveyttä silmälläpitä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aistanleve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inka paljon tietoa saadaan siirrettyä sekunnin aik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tayksikkö: b/s eli bittiä sekunnissa. (esim. 420 Kbs. Lähiverkon nopeus on vähintään 10M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os jakelutiedosto koodataan suuremmalle kaistanleveydelle, mitä katsojalla on käytössä, niin video joko nykii tai sitten sitä pitää puskuroida ennen esitystä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va verkossa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van laa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atautumisajat ja tiedostok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elkkä kuvituskuva melko turh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istettava, että ohjaavat huomiota herkästi </a:t>
            </a:r>
            <a:r>
              <a:rPr b="0" lang="fi-FI" sz="28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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voidaan siten myös hyödynt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ognitiivinen kuormi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alokuvat verkossa jpg-muodossa, kaaviot ja grafiikka gif-muodo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uskurointi -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ata siirretään ensin väliaikaiseen varastoon, josta järjestelmän prosessit noutavat 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iminoidaan tiedonsiirtokapasiteetin vaihtelu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ngelmat reaaliaikaisuudes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ljonko voidaan puskuroida ennen kuin viive haitta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neuvottelu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ideoneuvottelu on realiaikaista audiovisuaalista viestintää kahden tai useamman pisteen välillä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oteutetaan yleensä joko ISDN- (H.320) tai Internet-tekniikan avulla (H.32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äyttökohteita ovat esim. etäopetus, kokoukset, seminaa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ahdollistaa sovellusten jakamisen eri pisteiden välillä (varauks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neuvottelu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rvi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ideoneuvottelutila ja -la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aistus, akustiik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uonejärjestelmä, tietokoneeseen liitettäv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Yhteyshenkilöt muissa pistei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ekninen yhteyshenkil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isällöllinen yhteyshenkil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yvää suunnittelu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kuvaaminen 1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vakoon val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8 kuvakok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älä katkaise nivelten kohdalta, ja tee henkilöistä tors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erkossa toimivat lähikuvat, jos ja kun käytössä on pieni kuvako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enessä ruudussa jo yleiskuva hankala hahmot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ä tärkeämpi asia, sitä lähempänä ku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ähi- ja erikoislähikuvat tunneilmaisun kein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kuvaaminen 2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äytä vaihtelevasti kuvakokoja ja kuvakulmia, voit luoda visuaalisuutta, rytmiä ja tunnelmaa ohjelm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astatteluissa kuvaaja vaihtaa kuvakokoa haastattelijan kysymyksen kohdalla, ei vastauksen ai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tenevä tapa: tiiviistä kuvasta laajaan kuvaan, laajasta kuvasta tiivii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kohtainen tapa: laaja-tiivis-laaja-tiiv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stuva tapa: luodaan oma mekaniikka ja ryt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kuvaaminen 3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uvaku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ytmiä, tunnelmaa, visuaalisuutta vaihtelemalla kuvakulmia ja kuvakokoja (silmien korkeus, ylä/alakulma, subjektiivinen, objektiivi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ameran liikk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ytä kamerajalkaa AIN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norointi, tilttaus, zoom, kamera-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na  lähdöt ja paluut still-kuvasta! -&gt; helpottaa editoin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a liikkeet aina molempiin suunti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kuvaaminen 4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vasommit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austa (värit hälvenevät verkossa, monikuvioisuus taas elää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atseen tila, kultainen leikkaus, suojaviiva, kontrasti tausta ja kohde, silmien korkeus, liikkeen huomioi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älä kuvaa vastavaloon, jollet käytä tehokeinona; varmista, että kuvauspaikassa tarpeeksi val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10 % margina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kuvaaminen 5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vakerro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itä kerrot kuvillasi? Miten kuvitat juttuj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ituskuvalla väritetään, elävöitetään, voidaan kertoa omaa tarinaa tai se voi olla juttua tukev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llisesti vaihteleva juttu etenee ja on kiinno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rkkana-efe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älä käytä kuvia pelkästään välikuvina paikkaamaan editointijälki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kuvaaminen 6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vakäsikirjoitus/suunnitelma; ennen kuvaus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ahmottele kuvamateriaalisi ja kuvituskuva jo etukäte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erkkaa myös spiikit ja niiden sisält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aastattelua vastauksineen ei tietenkään voi kirjoittaa valmiiksi, mutta rungon ja teemat pitää miettiä etukät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kuvaaminen 7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teriaalin pu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ura ja tutustu materiaaliin; tee hyvät muistiinpanot (nauhakässä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E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tä haluat kerto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stä näkökulmas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kä on lähestymistapa ja tyyl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okkaa lopullinen käsikirjoitus: sisältää kuvamateriaalin, kuvituskuvan, spiikit; siis koko matsku pakett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tten edittiin leikkaamaan ju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i verkossa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siikkia, haastattelupätkiä, taustaääniä, tehosteääni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oimitetussa jutussa nämä kaikki yhde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inoastaan kuva puutt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ettiradio Mikaeli yhdistää ääntä, kuvaa, tekstiä </a:t>
            </a:r>
            <a:r>
              <a:rPr b="0" lang="fi-FI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le.fi/mikael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kuvaaminen 8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uomioi kuvatessa verkon asettamat vaatimuk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i liikkuvia koht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hvat kontrastit tausta ja koh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yvä valaistus, kirkkaat vä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a tarpeeksi lähel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suaalis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ältä nopeita kameran liikkeitä ja zoomeja, pelaa enemmän kuvakoolla ja -kulm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tathan äänen selkeästi jo nauhoitusvaiheessa!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ina mikrofoni muk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Linkke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ideon peruskurssi, Lapin Ylio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ulapland.fi/home/pranta/vidper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okuvantaju-oppimateria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ttp://www.mlab.uiah.fi/elokuvantaju/2001/oppimateriaali/oppimateriaali.j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editoinnin työnku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V-nauhalla on kuvattu materia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V-materiaali puretaan Firewire liitäntää pitkin konee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neeseen tallentuu suuria AVI tiedostoja (työtiedos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ostetaan haluttu esit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lennetaan esitys suoratoistomuotoon (jakelutiedos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I (Audio Video Interlea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ideon paketointiformaatti, joka voi sisältää eritavoin koodattua vide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etään sekä loppujakelussa että työskentelyformaat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imittää audion ja videon peräkkäisiksi lohkoik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ourCC koodi määrittää käytettävän koodekin sekä värijärjestelmän. (http://www.fourcc.org/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Lisätiedot videosta käyttäjä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nnattaa tarjota lisätietoa videos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istä video kert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ideon pit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iedoston koko (kuinka kauan kestää ladata tietyllä nopeude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iedostomu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illä ohjelmalla aukeaa ja mistä soitinohjelman sa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ekijänoikeu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Jotta jotain ääntä ja kuvaa voisi käyttää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en tulee olla itse tuotettua (esim. laulu + nauhoi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tse nauhoitettua + lupa esiintyjil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oisten tekemää + esitysoikeuksista sovittu tark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siikki </a:t>
            </a:r>
            <a:r>
              <a:rPr b="0" lang="fi-FI" sz="28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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teostomaks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apaasti käytettäviä ääniä myös neti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Digivideokamerat ja niiden käytt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it.jyu.fi/OPE/kurssit/Demot/Videoverkkoon/digivideokamerat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vaamisharjoitus ryhmiss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Jokainen ryhmäläinen kokeilee seuraavat asiat kameralla (ei tarvitse nauhoitta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zoomaus (eli lähelle-kau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norointi (vasemmalle-oikea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ilttaus (ylös-a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uvakoot: yleiskuva, kokokuva, puolikuva, lähik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vaussuunnitel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uunnittele lyhyt video, joka koostuu vähintään kolmesta otoks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illä kuvakoolla ja mistä kuvakulmasta kuvaat, missä seisoo k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ontako otosta o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uka kuvaa, ketkä keskustelevat ja suunnilleen mitä sano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vaussuunnitelmaa vastaan saatte kameran lainaan; varausaikatau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vaa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okainen ryhmän jäsen kuvaa ainakin yhden otoks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s henkilöt vaihtuvat tarinassa otosten välillä, se ei haittaa! Tärkeintä, että jokainen kuva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ttakaa joku otos kahteen otteeseen, editissä voi valita parem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UOM! Älkää kelatko nauhaa kuvausvaiheessa, vaan nauhoittakaa uusi otos edellisen perää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istakaa kuvata jokaisen otoksen jälkeen ainakin muutama sekunti tyhjää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i verkossa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Äänen käyttökohte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okin ääniraita (esim. puhetta) WWW-sivulle upotett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ideon yhteyde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uh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ustaää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siik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ehosteää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ebbisiv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ltimediaesitykse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Nauhakäsikirjo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tsokaa video läpi ja kirjatkaa paperille (tai notepadiin) nauhakäsikirjoitus, jossa näkyy otoksen numero, kellonaika  (alku ja loppu) sekä muutama sana siitä mitä otoksessa tapahtu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aratkaa aika edittiin (3h viikolla 45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 verkkossa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ideossa yhdistyvät kaikki mediaelemen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iikkuva k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äänet: juonnot, taustaäänet, musiik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ek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uvitusk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eikkauksilla ja rytmityksellä voidaan luoda paljonkin tunnel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deo verkossa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i välttämättä lineaar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daan pilkkoa o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irtuaaliyliopisto.fi/osahankkeet/strategiapalvelu/kokemuksia/Lundel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aasteena vielä pieni kuva ja huonohko saatav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atsomistilanne on erilainen verk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somiseen tarvitaan hyvät yhtey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levaisuudessa verkkovideon esittäminen yleisty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erkkovideon katsomiseen tarvitaan ”soitin” (Windows, Real, Quick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äni verko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igitaalinen ääni ja sen tallent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8:04:33Z</dcterms:created>
  <dc:creator>tevaultti</dc:creator>
  <dc:description/>
  <dc:language>en-US</dc:language>
  <cp:lastModifiedBy>tevaultti</cp:lastModifiedBy>
  <dcterms:modified xsi:type="dcterms:W3CDTF">2004-10-18T05:12:50Z</dcterms:modified>
  <cp:revision>43</cp:revision>
  <dc:subject/>
  <dc:title>Slide 1</dc:title>
</cp:coreProperties>
</file>