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7731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865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66720" y="4684680"/>
            <a:ext cx="53294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937080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773160" y="937080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05DC-4151-4883-B90B-B6357FCBA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kaalautuvuus =  Käytettävyyttä eri katselulaitteilla ja selaimil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575A-E5B9-43CD-B3E1-4303A5E99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517F-B56D-4ECE-B6F6-9141BAFF7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3715-6548-4931-A0D0-5DF0C1D8B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C54F-4F3F-461D-B5A5-83D01BC398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1D19-0658-4E5B-A469-B22839A072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441C5-FBB7-4AD3-B5C2-32B80DA97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52BF-7B9C-4F8D-8653-DC4DC1CF4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0C44-8773-4135-B593-9E5484FAF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085E-AF55-42E9-AE95-A07A38126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868B8-767F-4C40-B6BC-2396AC12D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2D8A4-24C3-4032-9077-F49D0E1DD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D0CC-2639-4AF9-B1C8-B8559B67D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ian_pohja" descr=""/>
          <p:cNvPicPr/>
          <p:nvPr/>
        </p:nvPicPr>
        <p:blipFill>
          <a:blip r:embed="rId2"/>
          <a:stretch/>
        </p:blipFill>
        <p:spPr>
          <a:xfrm>
            <a:off x="-100080" y="-76320"/>
            <a:ext cx="9344160" cy="7010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27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27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13279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27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1327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27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1327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27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27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27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FAD8-AFCE-4B5A-8E2F-0AC1A213DF2C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1700280"/>
            <a:ext cx="754380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99"/>
                </a:solidFill>
                <a:latin typeface="Arial"/>
              </a:rPr>
              <a:t>Kuvia verkkoon -käyttökoulu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3657600"/>
            <a:ext cx="655308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CHYSI-hankkeen käyttökoulu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13279"/>
                </a:solidFill>
                <a:latin typeface="Arial"/>
              </a:rPr>
              <a:t>Adobe PhotoShop 7.0  perust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14.9.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Mervi Ah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13279"/>
                </a:solidFill>
                <a:latin typeface="Arial"/>
              </a:rPr>
              <a:t>Tervetulo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66BD-3350-4DA8-A3A3-B304C6D643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_size_valikko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6537600" cy="5143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782640"/>
            <a:ext cx="8991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99"/>
                </a:solidFill>
                <a:latin typeface="Arial"/>
              </a:rPr>
              <a:t>Kuvakoon muuttaminen 3/3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048120" y="4191120"/>
            <a:ext cx="990360" cy="512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2743200"/>
            <a:ext cx="137160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95840" y="2476440"/>
            <a:ext cx="0" cy="609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1280" y="5897520"/>
            <a:ext cx="288288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0161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1613a"/>
                </a:solidFill>
                <a:latin typeface="Arial"/>
              </a:rPr>
              <a:t>Kuvan resoluutio (72 riittää webbikuvi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4572000"/>
            <a:ext cx="1067040" cy="1371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5486400" y="4266720"/>
            <a:ext cx="83808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486400" y="3504960"/>
            <a:ext cx="990720" cy="1523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4040" y="2511360"/>
            <a:ext cx="1430280" cy="459000"/>
          </a:xfrm>
          <a:prstGeom prst="rect">
            <a:avLst/>
          </a:prstGeom>
          <a:solidFill>
            <a:srgbClr val="ffffff"/>
          </a:solidFill>
          <a:ln w="3240">
            <a:solidFill>
              <a:srgbClr val="0161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1613a"/>
                </a:solidFill>
                <a:latin typeface="Arial"/>
              </a:rPr>
              <a:t>Kuvan kok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1613a"/>
                </a:solidFill>
                <a:latin typeface="Arial"/>
              </a:rPr>
              <a:t>pikseleinä näytöll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7000" y="2286000"/>
            <a:ext cx="174600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0161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1613a"/>
                </a:solidFill>
                <a:latin typeface="Arial"/>
              </a:rPr>
              <a:t>Kuvan koko kilotavu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4572000"/>
            <a:ext cx="1125720" cy="459000"/>
          </a:xfrm>
          <a:prstGeom prst="rect">
            <a:avLst/>
          </a:prstGeom>
          <a:solidFill>
            <a:srgbClr val="ffffff"/>
          </a:solidFill>
          <a:ln w="3240">
            <a:solidFill>
              <a:srgbClr val="0161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1613a"/>
                </a:solidFill>
                <a:latin typeface="Arial"/>
              </a:rPr>
              <a:t>Kuvan kok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1613a"/>
                </a:solidFill>
                <a:latin typeface="Arial"/>
              </a:rPr>
              <a:t>tulostettae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8320" y="4876920"/>
            <a:ext cx="1523520" cy="550800"/>
          </a:xfrm>
          <a:prstGeom prst="rect">
            <a:avLst/>
          </a:prstGeom>
          <a:solidFill>
            <a:srgbClr val="ffffff"/>
          </a:solidFill>
          <a:ln w="3240">
            <a:solidFill>
              <a:srgbClr val="0161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1613a"/>
                </a:solidFill>
                <a:latin typeface="Arial"/>
              </a:rPr>
              <a:t>Fyysisen kuvako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1613a"/>
                </a:solidFill>
                <a:latin typeface="Arial"/>
              </a:rPr>
              <a:t>mittayksikkö</a:t>
            </a:r>
            <a:r>
              <a:rPr b="0" lang="fi-FI" sz="1800" spc="-1" strike="noStrike">
                <a:solidFill>
                  <a:srgbClr val="01613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A024-1D91-485D-B077-9B80FFD3DB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99"/>
                </a:solidFill>
                <a:latin typeface="Arial"/>
              </a:rPr>
              <a:t>Kuvan ehostamine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127240"/>
            <a:ext cx="374328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Jos valokuva on ankean sävyinen tai hieman epätarkka, voidaan sitä ehostaa:</a:t>
            </a:r>
            <a:endParaRPr b="0" lang="en-US" sz="2400" spc="-1" strike="noStrike">
              <a:solidFill>
                <a:srgbClr val="01327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13279"/>
                </a:solidFill>
                <a:latin typeface="Arial"/>
              </a:rPr>
              <a:t>Unsharp mask-työkalu: terävöittää kuvaa (Filters</a:t>
            </a:r>
            <a:r>
              <a:rPr b="0" lang="fi-FI" sz="2000" spc="-1" strike="noStrike">
                <a:solidFill>
                  <a:srgbClr val="013279"/>
                </a:solidFill>
                <a:latin typeface="Wingdings"/>
                <a:ea typeface="Wingdings"/>
              </a:rPr>
              <a:t></a:t>
            </a:r>
            <a:r>
              <a:rPr b="0" lang="fi-FI" sz="2000" spc="-1" strike="noStrike">
                <a:solidFill>
                  <a:srgbClr val="013279"/>
                </a:solidFill>
                <a:latin typeface="Arial"/>
              </a:rPr>
              <a:t>Sharpen</a:t>
            </a:r>
            <a:r>
              <a:rPr b="0" lang="fi-FI" sz="2000" spc="-1" strike="noStrike">
                <a:solidFill>
                  <a:srgbClr val="013279"/>
                </a:solidFill>
                <a:latin typeface="Wingdings"/>
                <a:ea typeface="Wingdings"/>
              </a:rPr>
              <a:t></a:t>
            </a:r>
            <a:r>
              <a:rPr b="0" lang="fi-FI" sz="2000" spc="-1" strike="noStrike">
                <a:solidFill>
                  <a:srgbClr val="013279"/>
                </a:solidFill>
                <a:latin typeface="Arial"/>
              </a:rPr>
              <a:t> Unsharp Mask)</a:t>
            </a:r>
            <a:endParaRPr b="0" lang="en-US" sz="2000" spc="-1" strike="noStrike">
              <a:solidFill>
                <a:srgbClr val="01327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13279"/>
                </a:solidFill>
                <a:latin typeface="Arial"/>
              </a:rPr>
              <a:t>Kontrastin säätö (Image</a:t>
            </a:r>
            <a:r>
              <a:rPr b="0" lang="fi-FI" sz="2000" spc="-1" strike="noStrike">
                <a:solidFill>
                  <a:srgbClr val="013279"/>
                </a:solidFill>
                <a:latin typeface="Wingdings"/>
                <a:ea typeface="Wingdings"/>
              </a:rPr>
              <a:t></a:t>
            </a:r>
            <a:r>
              <a:rPr b="0" lang="fi-FI" sz="2000" spc="-1" strike="noStrike">
                <a:solidFill>
                  <a:srgbClr val="013279"/>
                </a:solidFill>
                <a:latin typeface="Arial"/>
              </a:rPr>
              <a:t>Adjust</a:t>
            </a:r>
            <a:r>
              <a:rPr b="0" lang="fi-FI" sz="2000" spc="-1" strike="noStrike">
                <a:solidFill>
                  <a:srgbClr val="013279"/>
                </a:solidFill>
                <a:latin typeface="Wingdings"/>
                <a:ea typeface="Wingdings"/>
              </a:rPr>
              <a:t></a:t>
            </a:r>
            <a:r>
              <a:rPr b="0" lang="fi-FI" sz="2000" spc="-1" strike="noStrike">
                <a:solidFill>
                  <a:srgbClr val="013279"/>
                </a:solidFill>
                <a:latin typeface="Arial"/>
              </a:rPr>
              <a:t>Auto Contrast) </a:t>
            </a:r>
            <a:endParaRPr b="0" lang="en-US" sz="2000" spc="-1" strike="noStrike">
              <a:solidFill>
                <a:srgbClr val="01327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279"/>
              </a:solidFill>
              <a:latin typeface="Arial"/>
            </a:endParaRPr>
          </a:p>
        </p:txBody>
      </p:sp>
      <p:pic>
        <p:nvPicPr>
          <p:cNvPr id="141" name="sharpen_1" descr=""/>
          <p:cNvPicPr/>
          <p:nvPr/>
        </p:nvPicPr>
        <p:blipFill>
          <a:blip r:embed="rId1"/>
          <a:stretch/>
        </p:blipFill>
        <p:spPr>
          <a:xfrm>
            <a:off x="5219640" y="1828800"/>
            <a:ext cx="2400480" cy="2171880"/>
          </a:xfrm>
          <a:prstGeom prst="rect">
            <a:avLst/>
          </a:prstGeom>
          <a:ln w="0">
            <a:noFill/>
          </a:ln>
        </p:spPr>
      </p:pic>
      <p:pic>
        <p:nvPicPr>
          <p:cNvPr id="142" name="sharpen_2" descr=""/>
          <p:cNvPicPr/>
          <p:nvPr/>
        </p:nvPicPr>
        <p:blipFill>
          <a:blip r:embed="rId2"/>
          <a:stretch/>
        </p:blipFill>
        <p:spPr>
          <a:xfrm>
            <a:off x="6172200" y="4152960"/>
            <a:ext cx="2400480" cy="217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4C48F-19B2-4231-8D0F-DE7DC9588A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99"/>
                </a:solidFill>
                <a:latin typeface="Arial"/>
              </a:rPr>
              <a:t>Tasot (layers) kuvankäsittelyssä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13279"/>
                </a:solidFill>
                <a:latin typeface="Arial"/>
              </a:rPr>
              <a:t>Nykykuvankäsittelyn peruskamaa</a:t>
            </a: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13279"/>
                </a:solidFill>
                <a:latin typeface="Arial"/>
              </a:rPr>
              <a:t>Kuvaan voidaan koota tasoja päällekkäin ja limittäin</a:t>
            </a: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13279"/>
                </a:solidFill>
                <a:latin typeface="Arial"/>
              </a:rPr>
              <a:t>Tasoja voidaan piilottaa, lisätä, kopioida, poistaa, muuttaa niiden läpinäkyvyyttä, lisätä efektejä vain yhteen/useaan tasoon</a:t>
            </a: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13279"/>
                </a:solidFill>
                <a:latin typeface="Arial"/>
              </a:rPr>
              <a:t>Tasojen järjestystä voi muuttaa</a:t>
            </a: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13279"/>
                </a:solidFill>
                <a:latin typeface="Arial"/>
              </a:rPr>
              <a:t>Vektoritasot (esim. teksti) ja rasteritasot (esim. osa valokuvaa) </a:t>
            </a: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CE56-BC78-4A9F-90C2-E613A6BA6D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99"/>
                </a:solidFill>
                <a:latin typeface="Arial"/>
              </a:rPr>
              <a:t>Tasot Photoshopiss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Tasoikkuna</a:t>
            </a:r>
            <a:endParaRPr b="0" lang="en-US" sz="24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Layer-valikko</a:t>
            </a:r>
            <a:endParaRPr b="0" lang="en-US" sz="24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Ylimmäinen taso tasoikkunassa myös ylin kuvassa</a:t>
            </a:r>
            <a:endParaRPr b="0" lang="en-US" sz="2400" spc="-1" strike="noStrike">
              <a:solidFill>
                <a:srgbClr val="013279"/>
              </a:solidFill>
              <a:latin typeface="Arial"/>
            </a:endParaRPr>
          </a:p>
        </p:txBody>
      </p:sp>
      <p:pic>
        <p:nvPicPr>
          <p:cNvPr id="147" name="layer_1" descr=""/>
          <p:cNvPicPr/>
          <p:nvPr/>
        </p:nvPicPr>
        <p:blipFill>
          <a:blip r:embed="rId1"/>
          <a:stretch/>
        </p:blipFill>
        <p:spPr>
          <a:xfrm>
            <a:off x="1447920" y="3276720"/>
            <a:ext cx="3429000" cy="2468520"/>
          </a:xfrm>
          <a:prstGeom prst="rect">
            <a:avLst/>
          </a:prstGeom>
          <a:ln w="0">
            <a:noFill/>
          </a:ln>
        </p:spPr>
      </p:pic>
      <p:pic>
        <p:nvPicPr>
          <p:cNvPr id="148" name="layer_2" descr=""/>
          <p:cNvPicPr/>
          <p:nvPr/>
        </p:nvPicPr>
        <p:blipFill>
          <a:blip r:embed="rId2"/>
          <a:stretch/>
        </p:blipFill>
        <p:spPr>
          <a:xfrm>
            <a:off x="5029200" y="3276720"/>
            <a:ext cx="3429000" cy="2457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 flipV="1">
            <a:off x="1752120" y="5105160"/>
            <a:ext cx="1143000" cy="990360"/>
          </a:xfrm>
          <a:prstGeom prst="line">
            <a:avLst/>
          </a:prstGeom>
          <a:ln w="28440">
            <a:solidFill>
              <a:srgbClr val="0161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5334120" y="5105160"/>
            <a:ext cx="1218960" cy="1143000"/>
          </a:xfrm>
          <a:prstGeom prst="line">
            <a:avLst/>
          </a:prstGeom>
          <a:ln w="28440">
            <a:solidFill>
              <a:srgbClr val="0161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438280" y="4038120"/>
            <a:ext cx="609840" cy="2210040"/>
          </a:xfrm>
          <a:prstGeom prst="line">
            <a:avLst/>
          </a:prstGeom>
          <a:ln w="28440">
            <a:solidFill>
              <a:srgbClr val="0161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6032520"/>
            <a:ext cx="2286000" cy="520200"/>
          </a:xfrm>
          <a:prstGeom prst="rect">
            <a:avLst/>
          </a:prstGeom>
          <a:solidFill>
            <a:srgbClr val="ffffff"/>
          </a:solidFill>
          <a:ln w="3240">
            <a:solidFill>
              <a:srgbClr val="0161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1613a"/>
                </a:solidFill>
                <a:latin typeface="Times New Roman"/>
              </a:rPr>
              <a:t>Taso, jolla on tomaatin kuva on otettu pois käytöstä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6019920" y="4190760"/>
            <a:ext cx="457200" cy="2057400"/>
          </a:xfrm>
          <a:prstGeom prst="line">
            <a:avLst/>
          </a:prstGeom>
          <a:ln w="28440">
            <a:solidFill>
              <a:srgbClr val="0161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6032520"/>
            <a:ext cx="2057400" cy="520200"/>
          </a:xfrm>
          <a:prstGeom prst="rect">
            <a:avLst/>
          </a:prstGeom>
          <a:solidFill>
            <a:srgbClr val="ffffff"/>
          </a:solidFill>
          <a:ln w="3240">
            <a:solidFill>
              <a:srgbClr val="0161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1613a"/>
                </a:solidFill>
                <a:latin typeface="Times New Roman"/>
              </a:rPr>
              <a:t>Taso, jolla on tomaatin kuva on otettu käyttöö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3C69-F11F-4950-BC87-3310BD4371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99"/>
                </a:solidFill>
                <a:latin typeface="Arial"/>
              </a:rPr>
              <a:t>Kuvan kääntäminen ja taso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2027160"/>
            <a:ext cx="70106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13279"/>
                </a:solidFill>
                <a:latin typeface="Arial"/>
              </a:rPr>
              <a:t>Jos kuva on väärinpäin tai vinossa tms. sitä voi kääntää valikosta: Image</a:t>
            </a:r>
            <a:r>
              <a:rPr b="0" lang="fi-FI" sz="2800" spc="-1" strike="noStrike">
                <a:solidFill>
                  <a:srgbClr val="013279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013279"/>
                </a:solidFill>
                <a:latin typeface="Arial"/>
              </a:rPr>
              <a:t>Rotate Canvas.</a:t>
            </a: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13279"/>
                </a:solidFill>
                <a:latin typeface="Arial"/>
              </a:rPr>
              <a:t>Jos kuvassa on useita tasoja (layereita), valitsemalla tason ja painamalla Control + T saa näkyviin työkalun, jolla voi kääntää (rotate), vääntää (skew) ja siirtää tasoa sekä muokata sen kokoa (kts. kuva).</a:t>
            </a:r>
            <a:endParaRPr b="0" lang="en-US" sz="28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37BF-7F31-44FE-85BA-DA96D64BF0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99"/>
                </a:solidFill>
                <a:latin typeface="Arial"/>
              </a:rPr>
              <a:t>Tason (layer) muokkau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06880" y="1473120"/>
            <a:ext cx="6975000" cy="5280120"/>
            <a:chOff x="1406880" y="1473120"/>
            <a:chExt cx="6975000" cy="5280120"/>
          </a:xfrm>
        </p:grpSpPr>
        <p:pic>
          <p:nvPicPr>
            <p:cNvPr id="159" name="tasojen_kaantaminen" descr=""/>
            <p:cNvPicPr/>
            <p:nvPr/>
          </p:nvPicPr>
          <p:blipFill>
            <a:blip r:embed="rId1"/>
            <a:stretch/>
          </p:blipFill>
          <p:spPr>
            <a:xfrm>
              <a:off x="1535040" y="1701720"/>
              <a:ext cx="6846840" cy="50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 flipV="1">
              <a:off x="5562720" y="4826160"/>
              <a:ext cx="761760" cy="761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62480" y="1473120"/>
              <a:ext cx="2543400" cy="276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16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Tason koko prosentte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666520" y="1625760"/>
              <a:ext cx="30492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495320" y="1701720"/>
              <a:ext cx="22860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6172200" y="2311200"/>
              <a:ext cx="411120" cy="160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508720" y="2311200"/>
              <a:ext cx="282600" cy="863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95480" y="1701720"/>
              <a:ext cx="45720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06880" y="1473120"/>
              <a:ext cx="2380320" cy="276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16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Tason koko pikselein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4280" y="1701720"/>
              <a:ext cx="30492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45800" y="3051360"/>
              <a:ext cx="2847960" cy="276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16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Tason kääntäminen (astein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6172200" y="2311200"/>
              <a:ext cx="914400" cy="160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36000" y="5435640"/>
              <a:ext cx="1799640" cy="276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16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Tasot (layeri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56760" y="3843360"/>
              <a:ext cx="2701800" cy="276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16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Tason vääntäminen (skew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352680" y="3758760"/>
              <a:ext cx="304920" cy="163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65880" y="5283360"/>
              <a:ext cx="2422800" cy="276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16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Valittu taso ja ”kahvat”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8C9E-DFDE-4B8C-9815-BC1D29C69A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99"/>
                </a:solidFill>
                <a:latin typeface="Arial"/>
              </a:rPr>
              <a:t>Adobe Photoshop 7.0 -kuvankäsittelyohjelm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Ammattimainen työkalu</a:t>
            </a:r>
            <a:endParaRPr b="0" lang="en-US" sz="24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Hieman rajoittuneempi ja paljon halvempi versio = Photoshop Elements.</a:t>
            </a:r>
            <a:endParaRPr b="0" lang="en-US" sz="24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Useat muut kuvankäsittelyohjelmat matkivat Photoshopin toimintoja </a:t>
            </a:r>
            <a:r>
              <a:rPr b="0" lang="fi-FI" sz="2400" spc="-1" strike="noStrike">
                <a:solidFill>
                  <a:srgbClr val="013279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 Hyödyllistä opetella Photoshopilla.</a:t>
            </a:r>
            <a:endParaRPr b="0" lang="en-US" sz="2400" spc="-1" strike="noStrike">
              <a:solidFill>
                <a:srgbClr val="01327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Olennaista käyttöliittymässä: työkalupalkki ja työkalukohtaiset ominaisuudet, tasot, historia, navigaattori ja efekti- ym. kuvaan kohdistuvat valikot (Ks. Kuva). </a:t>
            </a:r>
            <a:endParaRPr b="0" lang="en-US" sz="24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E0FB-09C1-4D4A-B179-04464FD5FD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nakyma" descr=""/>
          <p:cNvPicPr/>
          <p:nvPr/>
        </p:nvPicPr>
        <p:blipFill>
          <a:blip r:embed="rId1"/>
          <a:stretch/>
        </p:blipFill>
        <p:spPr>
          <a:xfrm>
            <a:off x="1523880" y="1158840"/>
            <a:ext cx="6365880" cy="5622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762120"/>
            <a:ext cx="70106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99"/>
                </a:solidFill>
                <a:latin typeface="Arial"/>
              </a:rPr>
              <a:t>Adobe Photoshop 7.0 -käyttöliittymä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37D9-38F0-4ACA-BF3B-B73543ED4A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798120"/>
            <a:ext cx="61722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99"/>
                </a:solidFill>
                <a:latin typeface="Arial"/>
              </a:rPr>
              <a:t>Tärkeimmät työkalu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346400" y="1600200"/>
            <a:ext cx="5590800" cy="5119560"/>
            <a:chOff x="1346400" y="1600200"/>
            <a:chExt cx="5590800" cy="5119560"/>
          </a:xfrm>
        </p:grpSpPr>
        <p:pic>
          <p:nvPicPr>
            <p:cNvPr id="55" name="tyokalupalkki" descr=""/>
            <p:cNvPicPr/>
            <p:nvPr/>
          </p:nvPicPr>
          <p:blipFill>
            <a:blip r:embed="rId1"/>
            <a:stretch/>
          </p:blipFill>
          <p:spPr>
            <a:xfrm>
              <a:off x="3854520" y="1679400"/>
              <a:ext cx="73188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700360" y="1724040"/>
              <a:ext cx="1262160" cy="500040"/>
            </a:xfrm>
            <a:prstGeom prst="line">
              <a:avLst/>
            </a:prstGeom>
            <a:ln w="19080">
              <a:solidFill>
                <a:srgbClr val="0161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2376360"/>
              <a:ext cx="1143000" cy="381240"/>
            </a:xfrm>
            <a:prstGeom prst="line">
              <a:avLst/>
            </a:prstGeom>
            <a:ln w="19080">
              <a:solidFill>
                <a:srgbClr val="0161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1828800" y="3595320"/>
              <a:ext cx="2133720" cy="304920"/>
            </a:xfrm>
            <a:prstGeom prst="line">
              <a:avLst/>
            </a:prstGeom>
            <a:ln w="19080">
              <a:solidFill>
                <a:srgbClr val="0161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495320" y="1843200"/>
              <a:ext cx="1676520" cy="380880"/>
            </a:xfrm>
            <a:prstGeom prst="line">
              <a:avLst/>
            </a:prstGeom>
            <a:ln w="19080">
              <a:solidFill>
                <a:srgbClr val="0161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4572000" y="2516040"/>
              <a:ext cx="792000" cy="12960"/>
            </a:xfrm>
            <a:prstGeom prst="line">
              <a:avLst/>
            </a:prstGeom>
            <a:ln w="19080">
              <a:solidFill>
                <a:srgbClr val="0161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495320" y="3062160"/>
              <a:ext cx="2133720" cy="0"/>
            </a:xfrm>
            <a:prstGeom prst="line">
              <a:avLst/>
            </a:prstGeom>
            <a:ln w="19080">
              <a:solidFill>
                <a:srgbClr val="0161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572000" y="3595680"/>
              <a:ext cx="914400" cy="0"/>
            </a:xfrm>
            <a:prstGeom prst="line">
              <a:avLst/>
            </a:prstGeom>
            <a:ln w="19080">
              <a:solidFill>
                <a:srgbClr val="0161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495680" y="4129200"/>
              <a:ext cx="1524240" cy="0"/>
            </a:xfrm>
            <a:prstGeom prst="line">
              <a:avLst/>
            </a:prstGeom>
            <a:ln w="19080">
              <a:solidFill>
                <a:srgbClr val="0161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4571640" y="4357800"/>
              <a:ext cx="1523880" cy="304560"/>
            </a:xfrm>
            <a:prstGeom prst="line">
              <a:avLst/>
            </a:prstGeom>
            <a:ln w="19080">
              <a:solidFill>
                <a:srgbClr val="0161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4571640" y="4738320"/>
              <a:ext cx="1143000" cy="304920"/>
            </a:xfrm>
            <a:prstGeom prst="line">
              <a:avLst/>
            </a:prstGeom>
            <a:ln w="19080">
              <a:solidFill>
                <a:srgbClr val="0161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572000" y="5043240"/>
              <a:ext cx="1371600" cy="685800"/>
            </a:xfrm>
            <a:prstGeom prst="line">
              <a:avLst/>
            </a:prstGeom>
            <a:ln w="19080">
              <a:solidFill>
                <a:srgbClr val="0161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40000" y="5035680"/>
              <a:ext cx="1622520" cy="312480"/>
            </a:xfrm>
            <a:prstGeom prst="line">
              <a:avLst/>
            </a:prstGeom>
            <a:ln w="19080">
              <a:solidFill>
                <a:srgbClr val="0161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90920" y="5576760"/>
              <a:ext cx="1676160" cy="0"/>
            </a:xfrm>
            <a:prstGeom prst="line">
              <a:avLst/>
            </a:prstGeom>
            <a:ln w="19080">
              <a:solidFill>
                <a:srgbClr val="0161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209680" y="3290760"/>
              <a:ext cx="1752840" cy="152640"/>
            </a:xfrm>
            <a:prstGeom prst="line">
              <a:avLst/>
            </a:prstGeom>
            <a:ln w="19080">
              <a:solidFill>
                <a:srgbClr val="0161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48560" y="2247840"/>
              <a:ext cx="1614960" cy="276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16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Rajaustyökalu (Crop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20560" y="1724040"/>
              <a:ext cx="1012680" cy="276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16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Siirtotyökal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04280" y="2371680"/>
              <a:ext cx="2032560" cy="276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16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Taikasauva (valintatyökalu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2600" y="2874960"/>
              <a:ext cx="529560" cy="276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16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Kyn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04680" y="3470400"/>
              <a:ext cx="1532520" cy="276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16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Alueen värjäämin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51800" y="3774960"/>
              <a:ext cx="528120" cy="276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16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Kum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60440" y="3976560"/>
              <a:ext cx="1072440" cy="276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16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Tekstityökal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86360" y="4479840"/>
              <a:ext cx="1047960" cy="276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16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Kuviotyökal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32920" y="4913280"/>
              <a:ext cx="1302480" cy="276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16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Värivalintapipet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85560" y="5560920"/>
              <a:ext cx="1149840" cy="276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16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Suurennusla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48200" y="4892760"/>
              <a:ext cx="1413720" cy="276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16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Värin asettamin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49280" y="5396040"/>
              <a:ext cx="2232000" cy="276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16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Taustavärin asettamin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49280" y="3138480"/>
              <a:ext cx="1295640" cy="554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16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Leimasi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(clone stamp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95480" y="1766880"/>
              <a:ext cx="1067040" cy="762120"/>
            </a:xfrm>
            <a:prstGeom prst="line">
              <a:avLst/>
            </a:prstGeom>
            <a:ln w="19080">
              <a:solidFill>
                <a:srgbClr val="0161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46400" y="1600200"/>
              <a:ext cx="1626840" cy="276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16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Alueenvalintatyökal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62320" y="4654440"/>
              <a:ext cx="1622160" cy="312840"/>
            </a:xfrm>
            <a:prstGeom prst="line">
              <a:avLst/>
            </a:prstGeom>
            <a:ln w="19080">
              <a:solidFill>
                <a:srgbClr val="0161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47120" y="4357800"/>
              <a:ext cx="1558440" cy="459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16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Näkyvän kuvanos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liikuttamin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62320" y="2833560"/>
              <a:ext cx="1600200" cy="228600"/>
            </a:xfrm>
            <a:prstGeom prst="line">
              <a:avLst/>
            </a:prstGeom>
            <a:ln w="19080">
              <a:solidFill>
                <a:srgbClr val="0161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49280" y="2681280"/>
              <a:ext cx="1317600" cy="276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16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1613a"/>
                  </a:solidFill>
                  <a:latin typeface="Arial"/>
                </a:rPr>
                <a:t>Korjaustyökal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8FD0-065A-49A4-B86D-F015CE2651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99"/>
                </a:solidFill>
                <a:latin typeface="Arial"/>
              </a:rPr>
              <a:t>Kuvan rajaaminen ja väriasetusten määrittäminen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Useita tapoja rajata kuva, esim.:</a:t>
            </a:r>
            <a:endParaRPr b="0" lang="en-US" sz="2400" spc="-1" strike="noStrike">
              <a:solidFill>
                <a:srgbClr val="01327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99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13279"/>
                </a:solidFill>
                <a:latin typeface="Arial"/>
              </a:rPr>
              <a:t>Crop-työkalu (koko kuvasta suoraan turhat reunat pois)</a:t>
            </a:r>
            <a:endParaRPr b="0" lang="en-US" sz="2000" spc="-1" strike="noStrike">
              <a:solidFill>
                <a:srgbClr val="01327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99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13279"/>
                </a:solidFill>
                <a:latin typeface="Arial"/>
              </a:rPr>
              <a:t>Erilaiset valintatyökalut ja niiden yhdistely (valinta, lasso, ”taikasauva”)</a:t>
            </a:r>
            <a:endParaRPr b="0" lang="en-US" sz="2000" spc="-1" strike="noStrike">
              <a:solidFill>
                <a:srgbClr val="01327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Nettikuvat ovat väreiltään tyyppiä RGB (Red, Green, Blue  - jpg-kuvat, .psd-kuvat, miljoonia värejä) tai Indexed color (.gif-kuvat, max. 256 väriä). </a:t>
            </a:r>
            <a:endParaRPr b="0" lang="en-US" sz="2400" spc="-1" strike="noStrike">
              <a:solidFill>
                <a:srgbClr val="01327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Kuvan värityyppiä voi muuttaa Image</a:t>
            </a:r>
            <a:r>
              <a:rPr b="0" lang="fi-FI" sz="2400" spc="-1" strike="noStrike">
                <a:solidFill>
                  <a:srgbClr val="013279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Mode-valikosta </a:t>
            </a:r>
            <a:endParaRPr b="0" lang="en-US" sz="2400" spc="-1" strike="noStrike">
              <a:solidFill>
                <a:srgbClr val="01327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99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13279"/>
                </a:solidFill>
                <a:latin typeface="Arial"/>
              </a:rPr>
              <a:t>jos halutaan esim. muokata .gif-muotoista kuvaa ja lisätä siihen efektejä, täytyy värityyppi muuttaa RGB:ksi </a:t>
            </a:r>
            <a:endParaRPr b="0" lang="en-US" sz="2000" spc="-1" strike="noStrike">
              <a:solidFill>
                <a:srgbClr val="0132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82BD-0B7C-48B7-B5A2-EDB665D59B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grop_2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006720" cy="4618080"/>
          </a:xfrm>
          <a:prstGeom prst="rect">
            <a:avLst/>
          </a:prstGeom>
          <a:ln w="0">
            <a:noFill/>
          </a:ln>
        </p:spPr>
      </p:pic>
      <p:pic>
        <p:nvPicPr>
          <p:cNvPr id="92" name="grop_1" descr=""/>
          <p:cNvPicPr/>
          <p:nvPr/>
        </p:nvPicPr>
        <p:blipFill>
          <a:blip r:embed="rId2"/>
          <a:stretch/>
        </p:blipFill>
        <p:spPr>
          <a:xfrm>
            <a:off x="1584360" y="1676520"/>
            <a:ext cx="3292560" cy="46180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99"/>
                </a:solidFill>
                <a:latin typeface="Arial"/>
              </a:rPr>
              <a:t>Kuvan rajaaminen - Crop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889280" y="2514600"/>
            <a:ext cx="99504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32680" y="5562720"/>
            <a:ext cx="115920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0161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1613a"/>
                </a:solidFill>
                <a:latin typeface="Arial"/>
              </a:rPr>
              <a:t>Rajattava 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565440" y="5105160"/>
            <a:ext cx="91440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2346480" y="5105160"/>
            <a:ext cx="45720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6165720"/>
            <a:ext cx="2819520" cy="387000"/>
          </a:xfrm>
          <a:prstGeom prst="rect">
            <a:avLst/>
          </a:prstGeom>
          <a:solidFill>
            <a:srgbClr val="ffffff"/>
          </a:solidFill>
          <a:ln w="3240">
            <a:solidFill>
              <a:srgbClr val="0161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1613a"/>
                </a:solidFill>
                <a:latin typeface="Arial"/>
              </a:rPr>
              <a:t>Vahvista rajaus painamalla Enteri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1613a"/>
                </a:solidFill>
                <a:latin typeface="Arial"/>
              </a:rPr>
              <a:t>Kuvasta tulee halutun kokoi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84360" y="5300280"/>
            <a:ext cx="142920" cy="865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443640" y="4797000"/>
            <a:ext cx="936720" cy="1368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720" y="2382840"/>
            <a:ext cx="104652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0161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1613a"/>
                </a:solidFill>
                <a:latin typeface="Arial"/>
              </a:rPr>
              <a:t>Crop-työkal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70DA-FAF3-4204-8296-B6083BAB0F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elliptical_marquee_tool_2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3336840" cy="4572000"/>
          </a:xfrm>
          <a:prstGeom prst="rect">
            <a:avLst/>
          </a:prstGeom>
          <a:ln w="0">
            <a:noFill/>
          </a:ln>
        </p:spPr>
      </p:pic>
      <p:pic>
        <p:nvPicPr>
          <p:cNvPr id="103" name="elliptical_marquee_tool_1" descr=""/>
          <p:cNvPicPr/>
          <p:nvPr/>
        </p:nvPicPr>
        <p:blipFill>
          <a:blip r:embed="rId2"/>
          <a:stretch/>
        </p:blipFill>
        <p:spPr>
          <a:xfrm>
            <a:off x="1600200" y="1981080"/>
            <a:ext cx="3508200" cy="4572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103140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99"/>
                </a:solidFill>
                <a:latin typeface="Arial"/>
              </a:rPr>
              <a:t>Kuvan rajaaminen-rajaustyökalu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8960" y="2514600"/>
            <a:ext cx="112248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0161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1613a"/>
                </a:solidFill>
                <a:latin typeface="Arial"/>
              </a:rPr>
              <a:t>Ympyräraja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04760" y="2743200"/>
            <a:ext cx="53316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2743200"/>
            <a:ext cx="22860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187280" y="2205000"/>
            <a:ext cx="136872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79000" y="4221000"/>
            <a:ext cx="2827080" cy="824040"/>
          </a:xfrm>
          <a:prstGeom prst="rect">
            <a:avLst/>
          </a:prstGeom>
          <a:solidFill>
            <a:srgbClr val="ffffff"/>
          </a:solidFill>
          <a:ln w="3240">
            <a:solidFill>
              <a:srgbClr val="0161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62000" tIns="46800" bIns="46800" anchor="t">
            <a:spAutoFit/>
          </a:bodyPr>
          <a:p>
            <a:pPr marL="343080" indent="-343080">
              <a:buClr>
                <a:srgbClr val="0161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1613a"/>
                </a:solidFill>
                <a:latin typeface="Arial"/>
              </a:rPr>
              <a:t>Rajaa haluttu 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161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1613a"/>
                </a:solidFill>
                <a:latin typeface="Arial"/>
              </a:rPr>
              <a:t>Kopioi se leikepöydä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161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1613a"/>
                </a:solidFill>
                <a:latin typeface="Arial"/>
              </a:rPr>
              <a:t>Luo uusi k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161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1613a"/>
                </a:solidFill>
                <a:latin typeface="Arial"/>
              </a:rPr>
              <a:t>Liitä kopioitu alue uuteen kuv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057400" y="2362320"/>
            <a:ext cx="1447920" cy="75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32200" y="2209680"/>
            <a:ext cx="205740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0161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1613a"/>
                </a:solidFill>
                <a:latin typeface="Arial"/>
              </a:rPr>
              <a:t>Rajauksen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200" spc="-1" strike="noStrike">
                <a:solidFill>
                  <a:srgbClr val="01613a"/>
                </a:solidFill>
                <a:latin typeface="Arial"/>
              </a:rPr>
              <a:t>mu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952880" y="2971800"/>
            <a:ext cx="1447920" cy="1752480"/>
          </a:xfrm>
          <a:prstGeom prst="line">
            <a:avLst/>
          </a:prstGeom>
          <a:ln w="28440">
            <a:solidFill>
              <a:srgbClr val="0161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4876920"/>
            <a:ext cx="1233360" cy="136440"/>
          </a:xfrm>
          <a:prstGeom prst="line">
            <a:avLst/>
          </a:prstGeom>
          <a:ln w="28440">
            <a:solidFill>
              <a:srgbClr val="0161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362320" y="4038120"/>
            <a:ext cx="696960" cy="327240"/>
          </a:xfrm>
          <a:prstGeom prst="line">
            <a:avLst/>
          </a:prstGeom>
          <a:ln w="28440">
            <a:solidFill>
              <a:srgbClr val="0161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4724280"/>
            <a:ext cx="533160" cy="0"/>
          </a:xfrm>
          <a:prstGeom prst="line">
            <a:avLst/>
          </a:prstGeom>
          <a:ln w="28440">
            <a:solidFill>
              <a:srgbClr val="0161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5C5A3-1605-4C5C-A08E-86C7F828AD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99"/>
                </a:solidFill>
                <a:latin typeface="Arial"/>
              </a:rPr>
              <a:t>Kuvakoon muuttaminen 1/3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44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Web-kuvasta puhuttaessa kaksi kuvakokoa</a:t>
            </a:r>
            <a:endParaRPr b="0" lang="en-US" sz="2400" spc="-1" strike="noStrike">
              <a:solidFill>
                <a:srgbClr val="013279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13279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13279"/>
                </a:solidFill>
                <a:latin typeface="Arial"/>
              </a:rPr>
              <a:t>kuvan fyysinen koko pikseleinä (px) eli sen leveys ja korkeus</a:t>
            </a:r>
            <a:endParaRPr b="0" lang="en-US" sz="1600" spc="-1" strike="noStrike">
              <a:solidFill>
                <a:srgbClr val="013279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13279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13279"/>
                </a:solidFill>
                <a:latin typeface="Arial"/>
              </a:rPr>
              <a:t>Kuvan koko kilotavuina (vaikuttaa kuvan lataamiseen verkosta), eli kuvan tiedostokoko</a:t>
            </a:r>
            <a:endParaRPr b="0" lang="en-US" sz="1600" spc="-1" strike="noStrike">
              <a:solidFill>
                <a:srgbClr val="013279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95d7c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13279"/>
                </a:solidFill>
                <a:latin typeface="Arial"/>
              </a:rPr>
              <a:t>Esimerkiksi kuva on 416*282 pikseliä ja 12 KB </a:t>
            </a:r>
            <a:endParaRPr b="0" lang="en-US" sz="2400" spc="-1" strike="noStrike">
              <a:solidFill>
                <a:srgbClr val="01327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38800" y="4610160"/>
            <a:ext cx="1663560" cy="1425600"/>
          </a:xfrm>
          <a:prstGeom prst="rect">
            <a:avLst/>
          </a:prstGeom>
          <a:ln w="0">
            <a:noFill/>
          </a:ln>
        </p:spPr>
      </p:pic>
      <p:pic>
        <p:nvPicPr>
          <p:cNvPr id="119" name="res_10prosenttia" descr=""/>
          <p:cNvPicPr/>
          <p:nvPr/>
        </p:nvPicPr>
        <p:blipFill>
          <a:blip r:embed="rId2"/>
          <a:stretch/>
        </p:blipFill>
        <p:spPr>
          <a:xfrm>
            <a:off x="2666880" y="3483000"/>
            <a:ext cx="4754520" cy="322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22F2-8828-4C47-8A71-D2EF6053EB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mage_size" descr=""/>
          <p:cNvPicPr/>
          <p:nvPr/>
        </p:nvPicPr>
        <p:blipFill>
          <a:blip r:embed="rId1"/>
          <a:stretch/>
        </p:blipFill>
        <p:spPr>
          <a:xfrm>
            <a:off x="2136600" y="1798560"/>
            <a:ext cx="5635800" cy="4754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99"/>
                </a:solidFill>
                <a:latin typeface="Arial"/>
              </a:rPr>
              <a:t>Kuvakoon muuttaminen 2/3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27520" y="3233880"/>
            <a:ext cx="280836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0161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1613a"/>
                </a:solidFill>
                <a:latin typeface="Arial"/>
              </a:rPr>
              <a:t>Valitse Image-valikosta Imag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179880" y="2874960"/>
            <a:ext cx="792000" cy="50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54360" y="4602240"/>
            <a:ext cx="455652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0161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1613a"/>
                </a:solidFill>
                <a:latin typeface="Arial"/>
              </a:rPr>
              <a:t>Canvas size-kohdassa voi rajata kuvasta reunoja p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819160" y="3017520"/>
            <a:ext cx="1584360" cy="1584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DFE6-0002-4271-802B-4238B5F4CD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1:15:58Z</dcterms:created>
  <dc:creator>Virtuaaliyliopisto</dc:creator>
  <dc:description/>
  <dc:language>en-US</dc:language>
  <cp:lastModifiedBy>mervi.ahonen</cp:lastModifiedBy>
  <dcterms:modified xsi:type="dcterms:W3CDTF">2004-09-13T15:33:48Z</dcterms:modified>
  <cp:revision>150</cp:revision>
  <dc:subject/>
  <dc:title>Kuvankäsittelyn perusteet – Adobe Photoshop Ele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